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8F04516-6790-4E4F-B4BF-C44D39FE53A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7E75C15-D922-4836-A172-CCACE508A0C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693720" y="739800"/>
            <a:ext cx="5346720" cy="3701880"/>
          </a:xfrm>
          <a:prstGeom prst="rect">
            <a:avLst/>
          </a:prstGeom>
          <a:ln w="0">
            <a:noFill/>
          </a:ln>
        </p:spPr>
      </p:sp>
      <p:sp>
        <p:nvSpPr>
          <p:cNvPr id="31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93720" y="739800"/>
            <a:ext cx="5346720" cy="3701880"/>
          </a:xfrm>
          <a:prstGeom prst="rect">
            <a:avLst/>
          </a:prstGeom>
          <a:ln w="0">
            <a:noFill/>
          </a:ln>
        </p:spPr>
      </p:sp>
      <p:sp>
        <p:nvSpPr>
          <p:cNvPr id="32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EB59D43-1779-4CF4-BFF5-6CBB4D4B36D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695160" y="739800"/>
            <a:ext cx="5345280" cy="3701880"/>
          </a:xfrm>
          <a:prstGeom prst="rect">
            <a:avLst/>
          </a:prstGeom>
          <a:ln w="0">
            <a:noFill/>
          </a:ln>
        </p:spPr>
      </p:sp>
      <p:sp>
        <p:nvSpPr>
          <p:cNvPr id="327"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90C598-C83C-4647-AD29-81A47E390C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E71EF0-016D-462D-A270-2C49512F59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C8717B-0C26-4E02-A9D2-B722AC589B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0344EB-0709-4A9F-A89D-EB055BE650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AF3CF-5743-4A4D-A20C-8360E74F73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057A4-4152-44B6-9FA5-BFE81FF51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2FDEB-944B-4824-938E-EBA48C5DE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E37AF-3F45-4A99-8AC0-348E8810A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8AF7D-BB36-43A6-8E3F-A26F2B038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7D92A-BD47-4C78-B102-A23729EBC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4E7B7-862B-41D5-A9C7-B2CC502A3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D9FC26-01F2-45E0-A056-29B731B1C5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B06EA-C37B-4889-A20D-80643AA96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AB0F0-8C1D-44CA-8E36-8229156DC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9850F-AE61-4FAA-8A17-0BD35365B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1781DA-222C-47A8-B6E1-F58F5AD10D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8201B-F79B-446C-95E4-A7822A7B5C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EA9A27-6F3D-4BAA-8823-CA06EBD17C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400422-B72C-4FF0-8A19-34B63FF968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75733F-6FC9-4056-8E66-761F8FA6B4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003B79-C351-4FFE-8173-83C1E3C1A3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0F84BD-BC1B-4365-9286-EAF1665DC2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7B2DAD-B247-466A-8EC6-EA0DC8CF78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CBFB67-A2F5-4D0A-86B6-71D68B5D565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73920-4D92-42F9-9A04-79304C894127}"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956E-8A0A-40F7-A5A9-EDBE728B7752}"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821C8BCF-86D7-4C40-9A24-9D6EED5E0D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08241E76-CB29-450E-958D-6081E8D1E7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2CF6D8F7-3611-4E6E-B210-C85E609D89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B2538BE7-E057-417F-8A62-9C2779B69E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EF56BF5B-8F5F-4D0F-8203-0D8F6F60F7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8AA1AA7-8D3C-41C3-8940-0C47F8CEBD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FF9AEDC-5684-48F8-A386-CD9277132D5D}"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6EF500E0-3126-4909-A94E-4D28D518C1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4A990AFA-8520-459A-AFEA-7F8EDB4803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C6F0718B-0A6D-4869-9914-902E4D136C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BB315BC7-9C98-4232-8614-3815060375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28600" y="2789280"/>
            <a:ext cx="4724280" cy="3373560"/>
          </a:xfrm>
          <a:prstGeom prst="rect">
            <a:avLst/>
          </a:prstGeom>
          <a:ln w="0">
            <a:noFill/>
          </a:ln>
        </p:spPr>
      </p:pic>
      <p:sp>
        <p:nvSpPr>
          <p:cNvPr id="153"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154"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155"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15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5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162"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4B8F1915-34FC-4057-B0E6-096FC887F9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165"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166"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16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6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304920" y="2438280"/>
            <a:ext cx="4114800" cy="3826080"/>
          </a:xfrm>
          <a:prstGeom prst="rect">
            <a:avLst/>
          </a:prstGeom>
          <a:ln w="0">
            <a:noFill/>
          </a:ln>
        </p:spPr>
      </p:pic>
      <p:sp>
        <p:nvSpPr>
          <p:cNvPr id="173"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174"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175"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CEDEA38F-CF54-4FCD-BD43-0269739358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741240" y="2133720"/>
            <a:ext cx="8402760" cy="4084200"/>
            <a:chOff x="741240" y="2133720"/>
            <a:chExt cx="8402760" cy="4084200"/>
          </a:xfrm>
        </p:grpSpPr>
        <p:sp>
          <p:nvSpPr>
            <p:cNvPr id="179"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80"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81"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82"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83"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84"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85"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86"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87"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88"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89"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90"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91"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92"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93"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94"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95"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96"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97"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98"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99"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200"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201"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202"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203"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204"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205"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206"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209"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210"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211"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212"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213"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214"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215"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216"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217"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21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850D27D-3264-4A3D-87D1-C8B3B37A0C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838080" y="1905120"/>
            <a:ext cx="7467840" cy="4303440"/>
          </a:xfrm>
          <a:prstGeom prst="rect">
            <a:avLst/>
          </a:prstGeom>
          <a:ln w="0">
            <a:noFill/>
          </a:ln>
        </p:spPr>
      </p:pic>
      <p:sp>
        <p:nvSpPr>
          <p:cNvPr id="224"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225"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27"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28"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29"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30"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32"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3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3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F41136BE-9892-4A18-9325-9B8F6E49ED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disasi</cp:lastModifiedBy>
  <cp:lastPrinted>2004-08-09T23:39:53Z</cp:lastPrinted>
  <dcterms:modified xsi:type="dcterms:W3CDTF">2004-10-11T18:25:43Z</dcterms:modified>
  <cp:revision>26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1724858</vt:r8>
  </property>
  <property fmtid="{D5CDD505-2E9C-101B-9397-08002B2CF9AE}" pid="3" name="_AuthorEmailDisplayName">
    <vt:lpwstr>Diego Isasi</vt:lpwstr>
  </property>
  <property fmtid="{D5CDD505-2E9C-101B-9397-08002B2CF9AE}" pid="4" name="_EmailSubject">
    <vt:lpwstr>Presentación para profesores y periodistas 7-10-04.ppt</vt:lpwstr>
  </property>
</Properties>
</file>